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1.wmf" ContentType="image/x-wmf"/>
  <Override PartName="/ppt/media/image50.gif" ContentType="image/gif"/>
  <Override PartName="/ppt/media/image1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63.gif" ContentType="image/gif"/>
  <Override PartName="/ppt/media/image22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LASER.WAV" ContentType="audio/x-wav"/>
  <Override PartName="/ppt/media/image48.wmf" ContentType="image/x-wmf"/>
  <Override PartName="/ppt/media/image11.wmf" ContentType="image/x-wmf"/>
  <Override PartName="/ppt/media/gunshot.wav" ContentType="audio/x-wav"/>
  <Override PartName="/ppt/media/image25.wmf" ContentType="image/x-wmf"/>
  <Override PartName="/ppt/media/image12.wmf" ContentType="image/x-wmf"/>
  <Override PartName="/ppt/media/image52.wmf" ContentType="image/x-wmf"/>
  <Override PartName="/ppt/media/image54.wmf" ContentType="image/x-wmf"/>
  <Override PartName="/ppt/media/image55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57.wmf" ContentType="image/x-wmf"/>
  <Override PartName="/ppt/media/image69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53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64.wmf" ContentType="image/x-wmf"/>
  <Override PartName="/ppt/media/image62.wmf" ContentType="image/x-wmf"/>
  <Override PartName="/ppt/media/image59.wmf" ContentType="image/x-wmf"/>
  <Override PartName="/ppt/media/image61.wmf" ContentType="image/x-wmf"/>
  <Override PartName="/ppt/media/image60.wmf" ContentType="image/x-wmf"/>
  <Override PartName="/ppt/media/image20.wmf" ContentType="image/x-wmf"/>
  <Override PartName="/ppt/media/driveby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applause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47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D82-EF7D-4FDD-87F4-CE4B8CD8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8A3-0BEB-4C7A-979D-9C7D38A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7C4-CB26-458E-BB29-956A827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4A9-9D54-4775-8C88-09770DC0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68A-851B-4E10-A466-2CB1293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970-5477-4C07-8190-871C319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95-8A0B-4E86-9AA1-78BF809B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2FB-DD97-47EC-8960-EF760CB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A81-EB51-4826-88A9-C423E1A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32D-9AAE-4EF5-B1E8-8C24117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7F3-689D-476F-9517-A7EAD8D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365-8292-49FF-91BD-1F66248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759-19F5-4BF1-BEDC-E45A252E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MERA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driveby.wav"/><Relationship Id="rId44" Type="http://schemas.openxmlformats.org/officeDocument/2006/relationships/audio" Target="../media/driveby.wav"/><Relationship Id="rId45" Type="http://schemas.openxmlformats.org/officeDocument/2006/relationships/audio" Target="../media/applause.wav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53.wmf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driveby.wav"/><Relationship Id="rId49" Type="http://schemas.openxmlformats.org/officeDocument/2006/relationships/audio" Target="../media/LASER.WAV"/><Relationship Id="rId50" Type="http://schemas.openxmlformats.org/officeDocument/2006/relationships/audio" Target="../media/EXPLODE.WAV"/><Relationship Id="rId51" Type="http://schemas.openxmlformats.org/officeDocument/2006/relationships/audio" Target="../media/EXPLODE.WAV"/><Relationship Id="rId52" Type="http://schemas.openxmlformats.org/officeDocument/2006/relationships/audio" Target="../media/carbrake.wav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5.wmf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driveby.wav"/><Relationship Id="rId48" Type="http://schemas.openxmlformats.org/officeDocument/2006/relationships/audio" Target="../media/LASER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carbrake.wav"/><Relationship Id="rId5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9880"/>
            <a:ext cx="3200400" cy="1524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143000"/>
          <a:ext cx="36874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68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865080" y="3125880"/>
          <a:ext cx="7779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31258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43000" y="4191120"/>
          <a:ext cx="51588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91120"/>
                    <a:ext cx="515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981080" y="3124080"/>
          <a:ext cx="777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1240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9480" y="31240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3733920"/>
          <a:ext cx="1084320" cy="16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733920"/>
                    <a:ext cx="10843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976400" y="3124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676520"/>
          <a:ext cx="1193760" cy="76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1676520"/>
                    <a:ext cx="1193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480" y="2362320"/>
          <a:ext cx="113508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2362320"/>
                    <a:ext cx="1135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981080" y="1676520"/>
          <a:ext cx="1193760" cy="76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1676520"/>
                    <a:ext cx="1193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79680" y="2438280"/>
          <a:ext cx="98100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79680" y="2438280"/>
                    <a:ext cx="9810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19720" y="685800"/>
                <a:ext cx="4419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876920" y="2133720"/>
          <a:ext cx="3103560" cy="16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2133720"/>
                    <a:ext cx="3103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52880" y="3886200"/>
          <a:ext cx="1741680" cy="16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886200"/>
                    <a:ext cx="17416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967440" y="4554360"/>
            <a:ext cx="162000" cy="2638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120080" y="432576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467480" y="2133720"/>
          <a:ext cx="919440" cy="1676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67480" y="2133720"/>
                    <a:ext cx="9194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4648320"/>
            <a:ext cx="25146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5920" y="1189080"/>
          <a:ext cx="406548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89080"/>
                    <a:ext cx="40654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352680" y="3048120"/>
          <a:ext cx="4669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04812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81080" y="3886200"/>
          <a:ext cx="8780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886200"/>
                    <a:ext cx="878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09680" y="3048120"/>
          <a:ext cx="46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04812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25960" y="3046320"/>
            <a:ext cx="630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3809880"/>
          <a:ext cx="1084320" cy="6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809880"/>
                    <a:ext cx="10843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04948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66880" y="1676520"/>
          <a:ext cx="155736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1676520"/>
                    <a:ext cx="1557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27080" y="2438280"/>
          <a:ext cx="82548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27080" y="24382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" y="1676520"/>
          <a:ext cx="1557360" cy="66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1676520"/>
                    <a:ext cx="1557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6880" y="2362320"/>
          <a:ext cx="1341720" cy="672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2362320"/>
                    <a:ext cx="13417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1219320"/>
                <a:ext cx="457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4800600" y="2057400"/>
          <a:ext cx="212256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00600" y="2057400"/>
                    <a:ext cx="21225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486400" y="2819520"/>
          <a:ext cx="293832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6400" y="2819520"/>
                    <a:ext cx="2938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8305920" y="304812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58200" y="281916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7240" y="4876920"/>
          <a:ext cx="1859040" cy="671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27240" y="4876920"/>
                    <a:ext cx="1859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781680" y="2057400"/>
          <a:ext cx="1739880" cy="65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057400"/>
                    <a:ext cx="17398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4648320"/>
            <a:ext cx="25146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19320"/>
          <a:ext cx="40179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40179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44960" y="3048120"/>
          <a:ext cx="8823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4960" y="30481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031840" y="3886200"/>
          <a:ext cx="7747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1840" y="3886200"/>
                    <a:ext cx="774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1960" y="3048120"/>
          <a:ext cx="8823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1960" y="30481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225960" y="3046320"/>
            <a:ext cx="630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19520" y="3962520"/>
          <a:ext cx="103320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962520"/>
                    <a:ext cx="1033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04948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24080" y="1676520"/>
          <a:ext cx="93528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676520"/>
                    <a:ext cx="935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09680" y="2362320"/>
          <a:ext cx="51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2362320"/>
                    <a:ext cx="51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990720" y="1676520"/>
          <a:ext cx="933480" cy="71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1676520"/>
                    <a:ext cx="9334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362320"/>
          <a:ext cx="1703160" cy="7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90920" y="2362320"/>
                    <a:ext cx="17031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72000" y="1295280"/>
                <a:ext cx="4572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459400" y="2057400"/>
          <a:ext cx="136044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59400" y="2057400"/>
                    <a:ext cx="13604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24480" y="2819520"/>
          <a:ext cx="147024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819520"/>
                    <a:ext cx="14702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848720" y="304812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001000" y="281916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52800" y="4826160"/>
          <a:ext cx="1806480" cy="774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52800" y="4826160"/>
                    <a:ext cx="1806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781680" y="2057400"/>
          <a:ext cx="1032120" cy="65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057400"/>
                    <a:ext cx="10321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58720" y="1289160"/>
          <a:ext cx="335592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289160"/>
                    <a:ext cx="33559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95480" y="1828800"/>
          <a:ext cx="11430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828800"/>
                    <a:ext cx="1143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905120" y="2438280"/>
          <a:ext cx="825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4382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87400" y="1803240"/>
          <a:ext cx="1139760" cy="61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7400" y="1803240"/>
                    <a:ext cx="11397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14400" y="243828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438280"/>
          <a:ext cx="97956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438280"/>
                    <a:ext cx="9795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0880" y="3352680"/>
            <a:ext cx="83059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ince the variable has been eliminated, and the resulting equation is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 the equation has          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NO SOLUTION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265400"/>
                <a:ext cx="5334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"/>
          <p:cNvGraphicFramePr/>
          <p:nvPr/>
        </p:nvGraphicFramePr>
        <p:xfrm>
          <a:off x="3048120" y="2743200"/>
          <a:ext cx="129996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743200"/>
                    <a:ext cx="12999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28800" y="3657600"/>
          <a:ext cx="1187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65760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3560" y="2768760"/>
          <a:ext cx="1295280" cy="81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560" y="2768760"/>
                    <a:ext cx="129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143000" y="350532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971800" y="3657600"/>
          <a:ext cx="16495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657600"/>
                    <a:ext cx="1649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4572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ince the variable has been eliminated, and the resulting equation is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 the equation is true for every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2057400"/>
          <a:ext cx="898560" cy="75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057400"/>
                    <a:ext cx="8985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905120" y="2133720"/>
          <a:ext cx="1087200" cy="56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2133720"/>
                    <a:ext cx="10872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971800" y="2057400"/>
          <a:ext cx="2363760" cy="75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2057400"/>
                    <a:ext cx="23637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6483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IDENT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5029200"/>
            <a:ext cx="251460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6040" y="1211400"/>
          <a:ext cx="34038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211400"/>
                    <a:ext cx="34038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95480" y="3048120"/>
          <a:ext cx="8305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048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371600" y="3581280"/>
          <a:ext cx="103176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581280"/>
                    <a:ext cx="1031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3880" y="3048120"/>
          <a:ext cx="8305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048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1800" y="3048120"/>
            <a:ext cx="96516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36760" y="4149720"/>
          <a:ext cx="98100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6760" y="4149720"/>
                    <a:ext cx="981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66860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895480" y="1752480"/>
          <a:ext cx="88272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752480"/>
                    <a:ext cx="8827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27280" y="2438280"/>
          <a:ext cx="46332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27280" y="2438280"/>
                    <a:ext cx="463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2120" y="1752480"/>
          <a:ext cx="88236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752480"/>
                    <a:ext cx="8823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362320" y="2438280"/>
          <a:ext cx="165096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2438280"/>
                    <a:ext cx="16509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419720" y="1143000"/>
                <a:ext cx="472428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4648320" y="2532240"/>
          <a:ext cx="2122200" cy="16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2532240"/>
                    <a:ext cx="21222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172200" y="4343400"/>
          <a:ext cx="1739880" cy="16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72200" y="4343400"/>
                    <a:ext cx="17398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8001000" y="510552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153280" y="4876560"/>
            <a:ext cx="38124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3880" y="5105520"/>
          <a:ext cx="2013120" cy="16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5105520"/>
                    <a:ext cx="2013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781680" y="2590920"/>
          <a:ext cx="1141560" cy="168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590920"/>
                    <a:ext cx="1141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10600" y="152280"/>
            <a:ext cx="1733400" cy="371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1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544680" y="3606840"/>
          <a:ext cx="747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680" y="3606840"/>
                    <a:ext cx="747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990720"/>
            <a:ext cx="754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7. A health club charges nonmembers $3 per day to swim and $5 per day for aerobics classes. Members pay a yearly fee of $200 plus $3 per day for aerobics classes. Write and solve an equation to find the number of days you must use the club to justify a yearly membershi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5720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need to use the club 40 days to justify a memb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3048120"/>
          <a:ext cx="4700520" cy="71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3048120"/>
                    <a:ext cx="4700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243160" y="3581280"/>
          <a:ext cx="1719360" cy="66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3160" y="3581280"/>
                    <a:ext cx="17193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176480" y="3581280"/>
          <a:ext cx="1096920" cy="60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3581280"/>
                    <a:ext cx="1096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39800" y="6245280"/>
          <a:ext cx="46512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39800" y="6245280"/>
                    <a:ext cx="465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3080" y="4114800"/>
          <a:ext cx="51768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53080" y="4114800"/>
                    <a:ext cx="517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005280" y="6245280"/>
          <a:ext cx="466560" cy="61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5280" y="624528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27476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010280" y="4038480"/>
          <a:ext cx="1290600" cy="621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10280" y="40384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7766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81040" y="4191120"/>
          <a:ext cx="774720" cy="622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81040" y="4191120"/>
                    <a:ext cx="7747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43160" y="4191120"/>
          <a:ext cx="2735280" cy="620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3160" y="4191120"/>
                    <a:ext cx="2735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43360" y="3581280"/>
          <a:ext cx="1220760" cy="663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43360" y="3581280"/>
                    <a:ext cx="1220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100160" y="4800600"/>
          <a:ext cx="1144440" cy="61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00160" y="4800600"/>
                    <a:ext cx="1144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843360" y="4800600"/>
          <a:ext cx="11397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3360" y="480060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76480" y="548640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405080" y="5486400"/>
          <a:ext cx="772920" cy="62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405080" y="5486400"/>
                    <a:ext cx="772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243160" y="5486400"/>
          <a:ext cx="1598760" cy="6206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243160" y="5486400"/>
                    <a:ext cx="1598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5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520560" y="3606840"/>
          <a:ext cx="79704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3606840"/>
                    <a:ext cx="797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0" y="990720"/>
            <a:ext cx="754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8. A health club charges nonmembers </a:t>
            </a: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$2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per day to swim and $5 per day for aerobics classes. Members pay a yearly fee of </a:t>
            </a: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$220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plus $3 per day for aerobics classes. Write and solve an equation to find the number of days you must use the club to justify a yearly membershi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5720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need to use the club 55 days to justify a memb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895480" y="2971800"/>
          <a:ext cx="4700880" cy="7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971800"/>
                    <a:ext cx="4700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243160" y="3581280"/>
          <a:ext cx="1719360" cy="66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3160" y="3581280"/>
                    <a:ext cx="17193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176480" y="3581280"/>
          <a:ext cx="1096920" cy="60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3581280"/>
                    <a:ext cx="1096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614600" y="6245280"/>
          <a:ext cx="51588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4600" y="6245280"/>
                    <a:ext cx="515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629400" y="4038480"/>
          <a:ext cx="51768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4038480"/>
                    <a:ext cx="517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979720" y="6245280"/>
          <a:ext cx="519120" cy="61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7972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7476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12160" y="3962520"/>
          <a:ext cx="1239840" cy="620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12160" y="3962520"/>
                    <a:ext cx="1239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7766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455840" y="4191120"/>
          <a:ext cx="826920" cy="622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55840" y="4191120"/>
                    <a:ext cx="826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243160" y="4191120"/>
          <a:ext cx="2735280" cy="620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3160" y="4191120"/>
                    <a:ext cx="2735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843360" y="3581280"/>
          <a:ext cx="1220760" cy="663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43360" y="3581280"/>
                    <a:ext cx="1220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100160" y="4800600"/>
          <a:ext cx="1144440" cy="61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00160" y="4800600"/>
                    <a:ext cx="1144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843360" y="4800600"/>
          <a:ext cx="11397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3360" y="480060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176480" y="548640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379520" y="5486400"/>
          <a:ext cx="824040" cy="62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379520" y="5486400"/>
                    <a:ext cx="82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43160" y="5486400"/>
          <a:ext cx="1598760" cy="6206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243160" y="5486400"/>
                    <a:ext cx="1598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3T16:45:33Z</dcterms:modified>
  <cp:revision>205</cp:revision>
  <dc:subject/>
  <dc:title>No Slide Title</dc:title>
</cp:coreProperties>
</file>